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259-C853-4EDD-8642-1B216FD6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2E3-8151-4B7F-9894-4CAFE8A9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D4E-ED5B-4C96-B918-FC93C386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E49-2D09-47C0-BF8A-C706CCD3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B89-FE67-4F87-A77C-D796E083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EDA-F14C-4E50-ABC9-0F923A5F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2C3-86E2-4EB5-B0F9-90102544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6D5-5F61-4A66-A574-AD15D16E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B35-B84A-48DA-B5CE-2F2FBC86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064-848C-486B-AFF9-BF44FED1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FDA-978A-4FE5-A10C-0AE5F9B1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ECD-5439-49B6-A3F2-7449A87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96D8-A041-4A88-9E2C-11A4CE16A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97640" cy="7696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477120" y="1447560"/>
            <a:ext cx="1066680" cy="2361960"/>
            <a:chOff x="6477120" y="1447560"/>
            <a:chExt cx="1066680" cy="2361960"/>
          </a:xfrm>
        </p:grpSpPr>
        <p:sp>
          <p:nvSpPr>
            <p:cNvPr id="43" name=""/>
            <p:cNvSpPr/>
            <p:nvPr/>
          </p:nvSpPr>
          <p:spPr>
            <a:xfrm>
              <a:off x="6477120" y="2508120"/>
              <a:ext cx="1066680" cy="13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987240" y="2845800"/>
              <a:ext cx="185040" cy="24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79760" y="3086640"/>
              <a:ext cx="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6986880" y="3327840"/>
              <a:ext cx="925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79760" y="3327840"/>
              <a:ext cx="1389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6848280" y="3134520"/>
              <a:ext cx="463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01480" y="3569040"/>
              <a:ext cx="556200" cy="144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7033320" y="1447560"/>
              <a:ext cx="0" cy="1060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8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0" y="4648320"/>
            <a:ext cx="8380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-304920"/>
            <a:ext cx="10713960" cy="1341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758680" y="10821960"/>
            <a:ext cx="1638360" cy="23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98680" y="-6934320"/>
            <a:ext cx="11201400" cy="14020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758680" y="10821960"/>
            <a:ext cx="1638360" cy="23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5410080" y="0"/>
            <a:ext cx="14000040" cy="1752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758680" y="10821960"/>
            <a:ext cx="1638360" cy="23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665440" y="-7924680"/>
            <a:ext cx="11809440" cy="14782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758680" y="10821960"/>
            <a:ext cx="1638360" cy="23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2057400"/>
            <a:ext cx="16761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8:22:05Z</dcterms:created>
  <dc:creator>socsd</dc:creator>
  <dc:description/>
  <dc:language>en-US</dc:language>
  <cp:lastModifiedBy>SOCSD</cp:lastModifiedBy>
  <dcterms:modified xsi:type="dcterms:W3CDTF">2010-10-22T12:53:58Z</dcterms:modified>
  <cp:revision>4</cp:revision>
  <dc:subject/>
  <dc:title>PowerPoint Presentation</dc:title>
</cp:coreProperties>
</file>